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CA6D5-DB46-4CA2-BE5E-BE2D24650D4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AD81A-7FBF-4E55-9E35-74A62DABC81F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EA991-F6F6-4AF3-B533-9D569DC98C5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F4644-8F72-4981-98FB-9A66A6DAC7F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D8016-5D55-427F-A2BF-0F69F385681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A144F-30D6-4896-A72E-CF7E50878A2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2FEAA-4807-4A27-9052-D0D66B0B484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816-4674-4C36-8925-A1BFAEB1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87D-BE5A-4253-BB79-3783EA13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553-0122-42A6-83F0-7AF20EC6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9D6-5D76-4081-AA7D-CD26EBB0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D16-8603-4629-9CB5-E8073D62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A6F-8BC4-4A3C-8E33-65F1F175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DD2-7A83-4A9F-8432-46679FC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FFC-D54A-48F6-A422-02C74FF5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950-B137-4DA5-9E62-D5A41745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C49-B70E-4AD6-A329-33D502DC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81C-E230-4D60-81B4-F9A69894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154-902A-450B-825A-8C558F45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F20C4-C700-4C39-9C4E-2C78B5709394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кабрь, 2019 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495080" y="136440"/>
            <a:ext cx="16970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9997920" y="136440"/>
            <a:ext cx="21942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339560" y="136440"/>
            <a:ext cx="185256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225520"/>
            <a:ext cx="84805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395000" y="136440"/>
            <a:ext cx="17971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501920"/>
            <a:ext cx="10101240" cy="4957560"/>
            <a:chOff x="654120" y="150192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50192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4892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5544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8472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0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"/>
            <p:cNvSpPr/>
            <p:nvPr/>
          </p:nvSpPr>
          <p:spPr>
            <a:xfrm>
              <a:off x="871920" y="278388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1125720" y="400500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3" name="TextBox 12"/>
            <p:cNvSpPr/>
            <p:nvPr/>
          </p:nvSpPr>
          <p:spPr>
            <a:xfrm>
              <a:off x="871920" y="534636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5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1054080" y="278460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425600" y="40449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054080" y="5308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0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1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. организац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де произведено прерывани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60240" y="2805120"/>
          <a:ext cx="108586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13360"/>
                <a:gridCol w="530280"/>
                <a:gridCol w="909360"/>
                <a:gridCol w="1060560"/>
                <a:gridCol w="835200"/>
                <a:gridCol w="833400"/>
                <a:gridCol w="833400"/>
                <a:gridCol w="833400"/>
                <a:gridCol w="8334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ая выноска 2"/>
          <p:cNvSpPr/>
          <p:nvPr/>
        </p:nvSpPr>
        <p:spPr>
          <a:xfrm>
            <a:off x="5246640" y="5254560"/>
            <a:ext cx="2435400" cy="142560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Прямоугольная выноска 4"/>
          <p:cNvSpPr/>
          <p:nvPr/>
        </p:nvSpPr>
        <p:spPr>
          <a:xfrm>
            <a:off x="9248760" y="382896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1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1523880" y="4827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85800" y="19033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Прямоугольная выноска 4"/>
          <p:cNvSpPr/>
          <p:nvPr/>
        </p:nvSpPr>
        <p:spPr>
          <a:xfrm>
            <a:off x="9515520" y="3936960"/>
            <a:ext cx="2281320" cy="1262160"/>
          </a:xfrm>
          <a:prstGeom prst="wedgeRectCallout">
            <a:avLst>
              <a:gd name="adj1" fmla="val -94527"/>
              <a:gd name="adj2" fmla="val 3016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5-конечная звезда 5"/>
          <p:cNvSpPr/>
          <p:nvPr/>
        </p:nvSpPr>
        <p:spPr>
          <a:xfrm>
            <a:off x="1771560" y="5707080"/>
            <a:ext cx="457200" cy="458640"/>
          </a:xfrm>
          <a:custGeom>
            <a:avLst/>
            <a:gdLst/>
            <a:ahLst/>
            <a:rect l="l" t="t" r="r" b="b"/>
            <a:pathLst>
              <a:path w="457200" h="457579">
                <a:moveTo>
                  <a:pt x="0" y="174779"/>
                </a:moveTo>
                <a:lnTo>
                  <a:pt x="174636" y="174780"/>
                </a:lnTo>
                <a:lnTo>
                  <a:pt x="228600" y="0"/>
                </a:lnTo>
                <a:lnTo>
                  <a:pt x="282564" y="174780"/>
                </a:lnTo>
                <a:lnTo>
                  <a:pt x="457200" y="174779"/>
                </a:lnTo>
                <a:lnTo>
                  <a:pt x="315916" y="282798"/>
                </a:lnTo>
                <a:lnTo>
                  <a:pt x="369882" y="457578"/>
                </a:lnTo>
                <a:lnTo>
                  <a:pt x="228600" y="349557"/>
                </a:lnTo>
                <a:lnTo>
                  <a:pt x="87318" y="457578"/>
                </a:lnTo>
                <a:lnTo>
                  <a:pt x="141284" y="282798"/>
                </a:lnTo>
                <a:lnTo>
                  <a:pt x="0" y="17477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19-12-09T14:33:21Z</dcterms:modified>
  <cp:revision>102</cp:revision>
  <dc:subject/>
  <dc:title>Презентация PowerPoint</dc:title>
</cp:coreProperties>
</file>